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4.jpeg" ContentType="image/jpeg"/>
  <Override PartName="/ppt/media/image23.wmf" ContentType="image/x-wmf"/>
  <Override PartName="/ppt/media/image21.wmf" ContentType="image/x-wmf"/>
  <Override PartName="/ppt/media/image18.jpeg" ContentType="image/jpeg"/>
  <Override PartName="/ppt/media/image22.wmf" ContentType="image/x-wmf"/>
  <Override PartName="/ppt/media/image6.png" ContentType="image/png"/>
  <Override PartName="/ppt/media/image20.wmf" ContentType="image/x-wmf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10.wmf" ContentType="image/x-wmf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4F6A-F25F-4B68-9C5F-97ED66E0B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come everyone, introduce my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loud Missing M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 about uses for beginning of school, importance of numbers and m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why we are here today: To learn about and get resources for Read Aloud books for the Math classro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17E3-EC2A-4FDB-BB32-9E5D0B470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over points on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2E8E-1647-481E-8AB2-D71376BCF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over points on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7FEF-439E-4FD2-B293-C887384F35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3672-5A80-4C37-98DA-482EE28B7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FD65-C5FA-4251-BE63-53169EEF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7769-6DCE-48D3-B7E5-0761613A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77C-188F-4ADF-8660-2906E134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89FB-AB8D-4A40-8739-81E25740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D783-14CC-489C-A547-9E62BE0E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00F9-711C-476B-AF01-469A9664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5DA2-BF1D-4EE3-AFDE-325CD3DA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5EB1-5912-4221-8EEB-7E6F89E2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68AB-FD99-42A0-B51C-9B55C8C5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BE08-9581-4D06-B50D-0456CAF6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BABD-8B14-4FEE-AC68-F2F3F7E9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5823-3208-4A36-86B9-80D8DCCE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DC28-192A-4EAF-BC3C-38F47BA7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2E3C-9864-49D6-8FAF-18316BDB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E697-D954-4575-833E-EF07CFAA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388F-ED68-452D-A8C3-2EDB8645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5451-64F6-4BD2-8855-0DA80E05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F5D74-11CD-491D-9EF4-9EA551F6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A0E3A-E4B4-477A-9053-96ED7000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5ADD8-F566-4750-8E9E-6EC13E2C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C4782-B94A-4C67-9E7E-C8BE9502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ECD37-F811-49CC-B9F3-43BEEB88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F269-891C-46A4-869B-0D24C879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E1D9B-3C6D-4B11-A2C1-82501235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E2980-1342-4E44-AE51-621C74C7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FDDA2-8596-4744-958A-7E5243E0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FE371-0FA4-427E-A471-166A59BF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04618-9552-4E71-A14E-FE130DD6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9A47F-E1DB-4D1D-A50D-5798A2DD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89C21-24B7-4744-8C08-FBACE8DC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BB3E9-D870-436D-976B-243DB550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9497D-2F90-4A0B-9E63-71C72A67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9CB80-D4A2-472F-9DD5-EA7B4F86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644A-DF51-4F72-A816-0673C2EF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9BB42-7D3F-4741-B858-FBCD5D7E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BC67F-66AB-460C-A516-1B66EABD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B855E-5285-4FA1-AF44-FE503028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F90E3-60C7-461A-8567-A65851A8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E2689-6F42-4913-BF02-6CCB67C9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E751A-B3B0-4CD2-B304-A79F4584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9ADCA-128C-44FD-93BD-E37FBBE4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8AD7C-2C64-4F92-9D95-C52AF557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5DB7A-188E-433B-AA65-8BC537D9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6672-78DF-4E3E-906C-D77B793C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F46C-1CB2-45C7-B520-E9EFB2FB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084D-28CA-46A1-95B3-3CF5DD85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D3B7-909E-4A72-ABE7-0DC60D62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54BA-0A45-4EBF-86A1-7B4AABCA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99B8-2B22-4E76-9C28-7AE63CBCFAA8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FEED-A00B-4133-BC0E-DFAF49578EE6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8E14-F033-4D0B-9574-B7B580CC2A06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3ED8-774E-436D-9297-23E6938C2EB9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athsolutions.com/index.cfm?page=wp10&amp;crid=154&amp;contentid=652" TargetMode="External"/><Relationship Id="rId2" Type="http://schemas.openxmlformats.org/officeDocument/2006/relationships/hyperlink" Target="http://www.mathsolutions.com/index.cfm?page=wp10&amp;crid=154&amp;contentid=652" TargetMode="External"/><Relationship Id="rId3" Type="http://schemas.openxmlformats.org/officeDocument/2006/relationships/hyperlink" Target="http://www.mathsolutions.com/documents/2004_A_Can_of_Coke_NSDC.pdf" TargetMode="External"/><Relationship Id="rId4" Type="http://schemas.openxmlformats.org/officeDocument/2006/relationships/hyperlink" Target="http://www.mathsolutions.com/documents/2004_A_Can_of_Coke_NSDC.pdf" TargetMode="External"/><Relationship Id="rId5" Type="http://schemas.openxmlformats.org/officeDocument/2006/relationships/hyperlink" Target="http://www.mathsolutions.com/documents/2004_A_Can_of_Coke_NSDC.pdf" TargetMode="External"/><Relationship Id="rId6" Type="http://schemas.openxmlformats.org/officeDocument/2006/relationships/hyperlink" Target="http://suite101.com/article/think-alouds-in-math-not-just-for-reading-anymore-a380958" TargetMode="External"/><Relationship Id="rId7" Type="http://schemas.openxmlformats.org/officeDocument/2006/relationships/hyperlink" Target="http://love2learn2day.blogspot.com/p/math-book-lists-tba.html" TargetMode="External"/><Relationship Id="rId8" Type="http://schemas.openxmlformats.org/officeDocument/2006/relationships/hyperlink" Target="http://love2learn2day.blogspot.com/p/math-book-lists-tba.html" TargetMode="External"/><Relationship Id="rId9" Type="http://schemas.openxmlformats.org/officeDocument/2006/relationships/hyperlink" Target="http://gentleartofchaos.blogspot.com/2010/03/living-math-math-read-alouds.html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athstervakkas.com/" TargetMode="External"/><Relationship Id="rId2" Type="http://schemas.openxmlformats.org/officeDocument/2006/relationships/hyperlink" Target="http://www.mathwire.com/archives/index.html" TargetMode="External"/><Relationship Id="rId3" Type="http://schemas.openxmlformats.org/officeDocument/2006/relationships/hyperlink" Target="http://www.k-5mathteachingresources.com/2nd-grade-number-activities.html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181480" y="3733920"/>
            <a:ext cx="337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3260c"/>
                </a:solidFill>
                <a:latin typeface="LD Shelly Print"/>
              </a:rPr>
              <a:t>Judi Cagle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3260c"/>
                </a:solidFill>
                <a:latin typeface="LD Shelly Print"/>
              </a:rPr>
              <a:t>Curriculum Support Instructo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3260c"/>
                </a:solidFill>
                <a:latin typeface="LD Shelly Print"/>
              </a:rPr>
              <a:t>Trindale Elementary Schoo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260c"/>
                </a:solidFill>
                <a:latin typeface="LD Shelly Print"/>
              </a:rPr>
              <a:t>jcagle@randolph.k12.nc.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Picture 2" descr="C:\Documents and Settings\jcagle\Local Settings\Temporary Internet Files\Content.IE5\TDTF2O6V\MC900094733[1].wmf"/>
          <p:cNvPicPr/>
          <p:nvPr/>
        </p:nvPicPr>
        <p:blipFill>
          <a:blip r:embed="rId1"/>
          <a:stretch/>
        </p:blipFill>
        <p:spPr>
          <a:xfrm rot="20793600">
            <a:off x="983880" y="2908440"/>
            <a:ext cx="3300480" cy="36162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3"/>
          <p:cNvSpPr/>
          <p:nvPr/>
        </p:nvSpPr>
        <p:spPr>
          <a:xfrm>
            <a:off x="609480" y="609480"/>
            <a:ext cx="807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3260c"/>
                </a:solidFill>
                <a:latin typeface="LD Shelly Print"/>
              </a:rPr>
              <a:t>Making Read Alouds COUNT..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3260c"/>
                </a:solidFill>
                <a:latin typeface="LD Shelly Print"/>
              </a:rPr>
              <a:t>in Math!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260c"/>
                </a:solidFill>
                <a:latin typeface="LD Shelly Print"/>
              </a:rPr>
              <a:t>February 18, 201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 rot="21107400">
            <a:off x="595080" y="66204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9240" algn="ctr">
              <a:lnSpc>
                <a:spcPct val="100000"/>
              </a:lnSpc>
              <a:spcBef>
                <a:spcPts val="10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3260c"/>
                </a:solidFill>
                <a:latin typeface="LD Shelly Print"/>
              </a:rPr>
              <a:t>"Children's literature plays an important role in confirming the notion that math is more than computation on paper and provides opportunities for learners to develop the </a:t>
            </a:r>
            <a:r>
              <a:rPr b="1" lang="en-US" sz="4100" spc="-1" strike="noStrike" u="sng">
                <a:solidFill>
                  <a:srgbClr val="c3260c"/>
                </a:solidFill>
                <a:uFillTx/>
                <a:latin typeface="LD Shelly Print"/>
              </a:rPr>
              <a:t>language</a:t>
            </a:r>
            <a:r>
              <a:rPr b="1" lang="en-US" sz="4100" spc="-1" strike="noStrike">
                <a:solidFill>
                  <a:srgbClr val="c3260c"/>
                </a:solidFill>
                <a:latin typeface="LD Shelly Print"/>
              </a:rPr>
              <a:t> of math."  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marL="39240" algn="ctr">
              <a:lnSpc>
                <a:spcPct val="10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3260c"/>
                </a:solidFill>
                <a:latin typeface="LD Shelly Print"/>
              </a:rPr>
              <a:t>Donna Maxim, Center for Teaching and Learning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9240">
              <a:lnSpc>
                <a:spcPct val="10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Picture 1" descr=""/>
          <p:cNvPicPr/>
          <p:nvPr/>
        </p:nvPicPr>
        <p:blipFill>
          <a:blip r:embed="rId1"/>
          <a:stretch/>
        </p:blipFill>
        <p:spPr>
          <a:xfrm>
            <a:off x="6172200" y="4317840"/>
            <a:ext cx="22860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143000" y="731880"/>
            <a:ext cx="72388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9600" algn="ctr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LD Shelly Print"/>
              </a:rPr>
              <a:t>Presentation Resources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LD Shelly Print"/>
              </a:rPr>
              <a:t>Carolyn Felux’s Q&amp;A,  </a:t>
            </a:r>
            <a:r>
              <a:rPr b="0" lang="en-US" sz="1600" spc="-1" strike="noStrike" u="sng">
                <a:solidFill>
                  <a:srgbClr val="56c7aa"/>
                </a:solidFill>
                <a:uFillTx/>
                <a:latin typeface="LD Shelly Print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56c7aa"/>
                </a:solidFill>
                <a:uFillTx/>
                <a:latin typeface="LD Shelly Print"/>
                <a:hlinkClick r:id="rId2"/>
              </a:rPr>
              <a:t>www.mathsolutions.com/index.cfm?page=wp10&amp;crid=154&amp;contentid=652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LD Shelly Print"/>
              </a:rPr>
              <a:t>Marilyn Burns article, “A Can of Coke Leads to a Piece of Pi” </a:t>
            </a:r>
            <a:r>
              <a:rPr b="0" lang="en-US" sz="1600" spc="-1" strike="noStrike" u="sng">
                <a:solidFill>
                  <a:srgbClr val="56c7aa"/>
                </a:solidFill>
                <a:uFillTx/>
                <a:latin typeface="LD Shelly Print"/>
                <a:hlinkClick r:id="rId3"/>
              </a:rPr>
              <a:t>http</a:t>
            </a:r>
            <a:r>
              <a:rPr b="0" lang="en-US" sz="1600" spc="-1" strike="noStrike" u="sng">
                <a:solidFill>
                  <a:srgbClr val="56c7aa"/>
                </a:solidFill>
                <a:uFillTx/>
                <a:latin typeface="LD Shelly Print"/>
                <a:hlinkClick r:id="rId4"/>
              </a:rPr>
              <a:t>://</a:t>
            </a:r>
            <a:r>
              <a:rPr b="0" lang="en-US" sz="1600" spc="-1" strike="noStrike" u="sng">
                <a:solidFill>
                  <a:srgbClr val="56c7aa"/>
                </a:solidFill>
                <a:uFillTx/>
                <a:latin typeface="LD Shelly Print"/>
                <a:hlinkClick r:id="rId5"/>
              </a:rPr>
              <a:t>www.mathsolutions.com/documents/2004_A_Can_of_Coke_NSDC.pdf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LD Shelly Print"/>
              </a:rPr>
              <a:t>Article, “Think Alouds in Math: Not Just for Reading Anymore” by Beth McKenna, </a:t>
            </a:r>
            <a:r>
              <a:rPr b="0" lang="en-US" sz="1600" spc="-1" strike="noStrike" u="sng">
                <a:solidFill>
                  <a:srgbClr val="56c7aa"/>
                </a:solidFill>
                <a:uFillTx/>
                <a:latin typeface="LD Shelly Print"/>
                <a:hlinkClick r:id="rId6"/>
              </a:rPr>
              <a:t>http://suite101.com/article/think-alouds-in-math-not-just-for-reading-anymore-a380958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LD Shelly Print"/>
              </a:rPr>
              <a:t>Cindy Hockman-Chupp’s Math Literature list, </a:t>
            </a:r>
            <a:r>
              <a:rPr b="0" lang="en-US" sz="1600" spc="-1" strike="noStrike" u="sng">
                <a:solidFill>
                  <a:srgbClr val="56c7aa"/>
                </a:solidFill>
                <a:uFillTx/>
                <a:latin typeface="LD Shelly Print"/>
                <a:hlinkClick r:id="rId7"/>
              </a:rPr>
              <a:t>http://</a:t>
            </a:r>
            <a:r>
              <a:rPr b="0" lang="en-US" sz="1600" spc="-1" strike="noStrike" u="sng">
                <a:solidFill>
                  <a:srgbClr val="56c7aa"/>
                </a:solidFill>
                <a:uFillTx/>
                <a:latin typeface="LD Shelly Print"/>
                <a:hlinkClick r:id="rId8"/>
              </a:rPr>
              <a:t>love2learn2day.blogspot.com/p/math-book-lists-tba.html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LD Shelly Print"/>
              </a:rPr>
              <a:t>Heather’s Living Math Read Alouds List,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6c7aa"/>
                </a:solidFill>
                <a:uFillTx/>
                <a:latin typeface="LD Shelly Print"/>
                <a:hlinkClick r:id="rId9"/>
              </a:rPr>
              <a:t>http</a:t>
            </a:r>
            <a:r>
              <a:rPr b="0" lang="en-US" sz="1600" spc="-1" strike="noStrike">
                <a:solidFill>
                  <a:srgbClr val="404040"/>
                </a:solidFill>
                <a:latin typeface="LD Shelly Print"/>
              </a:rPr>
              <a:t>://gentleartofchaos.blogspot.com/2010/03/living-math-math-read-alouds.html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LD Shelly Print"/>
              </a:rPr>
              <a:t>Marilyn Burns Math Libraries Book List, http://teacher.scholastic.com/products/paperbacks/marilynburns/programglance.htm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218960" y="76176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9960"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3260c"/>
                </a:solidFill>
                <a:latin typeface="LD Shelly Print"/>
              </a:rPr>
              <a:t>What would we do if all the numbers in the world suddenly went missing???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9960"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5326200" y="2590920"/>
            <a:ext cx="2555640" cy="2819160"/>
          </a:xfrm>
          <a:prstGeom prst="rect">
            <a:avLst/>
          </a:prstGeom>
          <a:ln w="0">
            <a:noFill/>
          </a:ln>
        </p:spPr>
      </p:pic>
      <p:sp>
        <p:nvSpPr>
          <p:cNvPr id="226" name="TextBox 4"/>
          <p:cNvSpPr/>
          <p:nvPr/>
        </p:nvSpPr>
        <p:spPr>
          <a:xfrm>
            <a:off x="1676520" y="35053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260c"/>
                </a:solidFill>
                <a:latin typeface="LD Shelly Print"/>
              </a:rPr>
              <a:t>Missing Math: A Number Myster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260c"/>
                </a:solidFill>
                <a:latin typeface="LD Shelly Print"/>
              </a:rPr>
              <a:t>By Loreen Leed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09480" y="1904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7080" algn="ctr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489f"/>
                </a:solidFill>
                <a:latin typeface="LD Shelly Print"/>
              </a:rPr>
              <a:t>Linking math to children’s literature can: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7080">
              <a:lnSpc>
                <a:spcPct val="90000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7080">
              <a:lnSpc>
                <a:spcPct val="9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3260c"/>
                </a:solidFill>
                <a:latin typeface="LD Shelly Print"/>
              </a:rPr>
              <a:t>Spark children’s interest in learning mathematics.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7080">
              <a:lnSpc>
                <a:spcPct val="9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3260c"/>
                </a:solidFill>
                <a:latin typeface="LD Shelly Print"/>
              </a:rPr>
              <a:t>Provide contexts that bring meaning to mathematical ideas.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7080">
              <a:lnSpc>
                <a:spcPct val="9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3260c"/>
                </a:solidFill>
                <a:latin typeface="LD Shelly Print"/>
              </a:rPr>
              <a:t>Tie mathematics to another area of the curriculum. 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7080">
              <a:lnSpc>
                <a:spcPct val="9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3260c"/>
                </a:solidFill>
                <a:latin typeface="LD Shelly Print"/>
              </a:rPr>
              <a:t>Support student understanding through communication.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7080">
              <a:lnSpc>
                <a:spcPct val="90000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Picture 4" descr="C:\Documents and Settings\jcagle\Local Settings\Temporary Internet Files\Content.IE5\IA4R5FX8\MC900237185[1].wmf"/>
          <p:cNvPicPr/>
          <p:nvPr/>
        </p:nvPicPr>
        <p:blipFill>
          <a:blip r:embed="rId1"/>
          <a:stretch/>
        </p:blipFill>
        <p:spPr>
          <a:xfrm>
            <a:off x="6934320" y="152280"/>
            <a:ext cx="18288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533160" y="731520"/>
            <a:ext cx="79246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4920" algn="ctr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LD Shelly Print"/>
              </a:rPr>
              <a:t>How do you choose a book to use?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9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3260c"/>
                </a:solidFill>
                <a:latin typeface="LD Shelly Print"/>
              </a:rPr>
              <a:t>Select books that are of a high quality from a literary perspectiv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9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3260c"/>
                </a:solidFill>
                <a:latin typeface="LD Shelly Print"/>
              </a:rPr>
              <a:t>Look for literature that presents content that is mathematically sound and grade level appropriat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9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3260c"/>
                </a:solidFill>
                <a:latin typeface="LD Shelly Print"/>
              </a:rPr>
              <a:t>Carefully consider the potential the book has for helping students learn to think and reason mathematically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9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0" name="Picture 2" descr="C:\Documents and Settings\jcagle\Local Settings\Temporary Internet Files\Content.IE5\VJLHH0WA\MC900199330[1].wmf"/>
          <p:cNvPicPr/>
          <p:nvPr/>
        </p:nvPicPr>
        <p:blipFill>
          <a:blip r:embed="rId1"/>
          <a:stretch/>
        </p:blipFill>
        <p:spPr>
          <a:xfrm>
            <a:off x="3048120" y="4419720"/>
            <a:ext cx="3047760" cy="19285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3"/>
          <p:cNvSpPr/>
          <p:nvPr/>
        </p:nvSpPr>
        <p:spPr>
          <a:xfrm>
            <a:off x="1828800" y="6353280"/>
            <a:ext cx="57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D Shelly Print"/>
              </a:rPr>
              <a:t>List by Carolyn Felux, Math Solutions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04920" y="304560"/>
            <a:ext cx="5346720" cy="61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9600" algn="ctr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79ca"/>
                </a:solidFill>
                <a:latin typeface="LD Shelly Print"/>
              </a:rPr>
              <a:t>Online Lesson Resources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6c7aa"/>
                </a:solidFill>
                <a:uFillTx/>
                <a:latin typeface="LD Shelly Print"/>
                <a:hlinkClick r:id="rId1"/>
              </a:rPr>
              <a:t>Mathster Vakkas </a:t>
            </a:r>
            <a:r>
              <a:rPr b="1" lang="en-US" sz="1800" spc="-1" strike="noStrike">
                <a:solidFill>
                  <a:srgbClr val="c3260c"/>
                </a:solidFill>
                <a:latin typeface="LD Shelly Print"/>
              </a:rPr>
              <a:t>– Math Read Alouds on video along with teaching videos with a problem for students to solv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6c7aa"/>
                </a:solidFill>
                <a:uFillTx/>
                <a:latin typeface="LD Shelly Print"/>
                <a:hlinkClick r:id="rId2"/>
              </a:rPr>
              <a:t>Mathwire </a:t>
            </a:r>
            <a:r>
              <a:rPr b="1" lang="en-US" sz="1800" spc="-1" strike="noStrike">
                <a:solidFill>
                  <a:srgbClr val="c3260c"/>
                </a:solidFill>
                <a:latin typeface="LD Shelly Print"/>
              </a:rPr>
              <a:t>– Great resource with a Math Literature Connections section.  In this section you will find suggested books along with teaching resourc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6c7aa"/>
                </a:solidFill>
                <a:uFillTx/>
                <a:latin typeface="LD Shelly Print"/>
                <a:hlinkClick r:id="rId3"/>
              </a:rPr>
              <a:t>K-5 Math Teaching Resources </a:t>
            </a:r>
            <a:r>
              <a:rPr b="1" lang="en-US" sz="1800" spc="-1" strike="noStrike">
                <a:solidFill>
                  <a:srgbClr val="c3260c"/>
                </a:solidFill>
                <a:latin typeface="LD Shelly Print"/>
              </a:rPr>
              <a:t>– Has resources listed by Domain and grade level. Also has Math Read Aloud Task Card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4"/>
          <a:stretch/>
        </p:blipFill>
        <p:spPr>
          <a:xfrm rot="20949600">
            <a:off x="7226280" y="3033720"/>
            <a:ext cx="1549440" cy="12193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5"/>
          <a:stretch/>
        </p:blipFill>
        <p:spPr>
          <a:xfrm>
            <a:off x="5803920" y="2898720"/>
            <a:ext cx="1197000" cy="1523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6"/>
          <a:stretch/>
        </p:blipFill>
        <p:spPr>
          <a:xfrm rot="653400">
            <a:off x="7391160" y="1091880"/>
            <a:ext cx="1218960" cy="1241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7"/>
          <a:stretch/>
        </p:blipFill>
        <p:spPr>
          <a:xfrm rot="20984400">
            <a:off x="5866920" y="685800"/>
            <a:ext cx="1006560" cy="1523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"/>
          <p:cNvPicPr/>
          <p:nvPr/>
        </p:nvPicPr>
        <p:blipFill>
          <a:blip r:embed="rId8"/>
          <a:stretch/>
        </p:blipFill>
        <p:spPr>
          <a:xfrm rot="641400">
            <a:off x="5956200" y="5072040"/>
            <a:ext cx="1427400" cy="1309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"/>
          <p:cNvPicPr/>
          <p:nvPr/>
        </p:nvPicPr>
        <p:blipFill>
          <a:blip r:embed="rId9"/>
          <a:stretch/>
        </p:blipFill>
        <p:spPr>
          <a:xfrm>
            <a:off x="7724880" y="4950000"/>
            <a:ext cx="115092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762120" y="731520"/>
            <a:ext cx="76960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1400" algn="ctr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60c"/>
                </a:solidFill>
                <a:latin typeface="LD Shelly Print"/>
              </a:rPr>
              <a:t>Book Lists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3260c"/>
                </a:solidFill>
                <a:latin typeface="LD Shelly Print"/>
              </a:rPr>
              <a:t>Judi’s list is arranged by Common Core Domain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14440" indent="-1713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260c"/>
                </a:solidFill>
                <a:latin typeface="LD Shelly Print"/>
              </a:rPr>
              <a:t>Operations and Algebraic Think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14440" indent="-1713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260c"/>
                </a:solidFill>
                <a:latin typeface="LD Shelly Print"/>
              </a:rPr>
              <a:t>Number and Operations in Base 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14440" indent="-1713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260c"/>
                </a:solidFill>
                <a:latin typeface="LD Shelly Print"/>
              </a:rPr>
              <a:t>Number and Operations-Fraction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14440" indent="-1713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260c"/>
                </a:solidFill>
                <a:latin typeface="LD Shelly Print"/>
              </a:rPr>
              <a:t>Measurement and Data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14440" indent="-1713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260c"/>
                </a:solidFill>
                <a:latin typeface="LD Shelly Print"/>
              </a:rPr>
              <a:t>Geometry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14440" indent="-1713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14440" indent="-1713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260c"/>
                </a:solidFill>
                <a:latin typeface="LD Shelly Print"/>
              </a:rPr>
              <a:t>I have not read every book on the list, so make sure that you read the books ahead of time to make sure that they match what YOU are teaching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14440" indent="-1713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260c"/>
                </a:solidFill>
                <a:latin typeface="LD Shelly Print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14440" indent="-1713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260c"/>
                </a:solidFill>
                <a:latin typeface="LD Shelly Print"/>
              </a:rPr>
              <a:t>Links for additional lists are at the end of the Power Point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Picture 2" descr="C:\Documents and Settings\jcagle\Local Settings\Temporary Internet Files\Content.IE5\DWQH2N1E\MC900130271[1].wmf"/>
          <p:cNvPicPr/>
          <p:nvPr/>
        </p:nvPicPr>
        <p:blipFill>
          <a:blip r:embed="rId1"/>
          <a:stretch/>
        </p:blipFill>
        <p:spPr>
          <a:xfrm>
            <a:off x="6156360" y="1600200"/>
            <a:ext cx="247644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Object 5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4170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Object 6" descr=""/>
          <p:cNvPicPr/>
          <p:nvPr/>
        </p:nvPicPr>
        <p:blipFill>
          <a:blip r:embed="rId1"/>
          <a:stretch/>
        </p:blipFill>
        <p:spPr>
          <a:xfrm>
            <a:off x="1600200" y="163440"/>
            <a:ext cx="588312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Object 6" descr=""/>
          <p:cNvPicPr/>
          <p:nvPr/>
        </p:nvPicPr>
        <p:blipFill>
          <a:blip r:embed="rId1"/>
          <a:stretch/>
        </p:blipFill>
        <p:spPr>
          <a:xfrm>
            <a:off x="1905120" y="152280"/>
            <a:ext cx="5305320" cy="64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3:51:17Z</dcterms:created>
  <dc:creator>Cagle, Judi</dc:creator>
  <dc:description/>
  <dc:language>en-US</dc:language>
  <cp:lastModifiedBy>afloyd</cp:lastModifiedBy>
  <cp:lastPrinted>2013-02-15T16:07:10Z</cp:lastPrinted>
  <dcterms:modified xsi:type="dcterms:W3CDTF">2013-02-15T16:54:30Z</dcterms:modified>
  <cp:revision>34</cp:revision>
  <dc:subject/>
  <dc:title>PowerPoint Presentation</dc:title>
</cp:coreProperties>
</file>